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7424-7AF6-41B5-B520-2C95D972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lates are stored in the wiki - don’t need shell access to edit, loa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o two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388-2F97-489D-A8FF-1073F2D8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A60-C0F9-407C-87D7-75523722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839-4258-43C7-8B2F-8151C278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5D0-E1C4-4EB4-AA34-59A209DC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F5C-2BDA-4981-A0C2-05309222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776-8CEC-4223-98A2-8177A4D9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292-BAC4-4F51-988C-663D894B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0B88-73D3-4B80-BF64-B78F246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AC1-265B-4E8D-9603-E5E310BD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A7A-14AE-40A7-8E83-621A0DE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689A-D65C-4808-B934-28E5682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5CB-0057-4745-85C2-A409526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F9AB-15B5-4735-B7B5-78FBD75DED70}" type="slidenum">
              <a:rPr b="0" lang="en-US" sz="10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 and Wikibot Mediawiki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im Hu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ein/Ware Retre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y 14, 2007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4413240" cy="460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H="1">
            <a:off x="1945080" y="1600200"/>
            <a:ext cx="55584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828800"/>
            <a:ext cx="12189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24280" y="14479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flipH="1">
            <a:off x="2347200" y="1981080"/>
            <a:ext cx="49050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2522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25220"/>
              </a:path>
            </a:pathLst>
          </a:custGeom>
          <a:noFill/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438280"/>
            <a:ext cx="167616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upca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585324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alone g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0008150_!_biological_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dvanced: tagged text: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type&gt;0&lt;/typ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style&gt;bgcolor=‘#6666FF’&lt;/sty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’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&lt;/heading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Hook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diaWiki Hook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ash of arrays hookname=&gt;array=&gt;Extension function na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tensions register their functions by adding to the appropriate hash for the hook they want to use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define hooks inside extensions using same mechan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fRunHooks( 'TableEditBeforeSave', array( &amp;$this, &amp;$table ) )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#pass by referen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$wgHooks['TableEditBeforeSave'][] = 'wfTableEditLinks'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unction wfTableEditLinks( $article, $table 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…code to do stuff to $table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Links.php extension adds links based on reg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8360" y="4983120"/>
            <a:ext cx="8793360" cy="1036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62120" y="63244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eshadowing: This became a design issue when I wrote the 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139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9" name=""/>
            <p:cNvCxnSpPr>
              <a:stCxn id="148" idx="1"/>
              <a:endCxn id="143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6" idx="1"/>
              <a:endCxn id="144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7" idx="3"/>
              <a:endCxn id="145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6" idx="3"/>
              <a:endCxn id="147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3" name=""/>
            <p:cNvCxnSpPr>
              <a:stCxn id="147" idx="1"/>
              <a:endCxn id="148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39" idx="2"/>
              <a:endCxn id="141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"/>
            <p:cNvCxnSpPr>
              <a:stCxn id="155" idx="3"/>
              <a:endCxn id="156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39" idx="2"/>
              <a:endCxn id="144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3" idx="3"/>
              <a:endCxn id="144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6" idx="3"/>
              <a:endCxn id="145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62" idx="2"/>
              <a:endCxn id="145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3" name=""/>
            <p:cNvCxnSpPr>
              <a:stCxn id="140" idx="2"/>
              <a:endCxn id="162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4" name=""/>
            <p:cNvCxnSpPr>
              <a:stCxn id="144" idx="0"/>
              <a:endCxn id="140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Next Step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286000"/>
            <a:ext cx="4191120" cy="20574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Building the bo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onent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l - bot controll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out for output from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kibot.pl -in for input into the wiki tabl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kiBot.pm and a ridiculous number of other object cla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t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reads the db and loads a data structure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ranslates tags if necessary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output xml-like tagged text to STDOU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ve_wikirow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take xml-like tagged tex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box_db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536120" indent="-219240">
              <a:spcBef>
                <a:spcPts val="34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update the wiki via a php script runTableEdit.ph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unTableEdit.ph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ns parts of the table editor from the shel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Various configuration pages in the wiki in the User namespac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ou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.pl -out -template GO_table_product  -a JimHu/testadaptor1         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name&gt;Sandbox&lt;/page_nam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page_uid&gt;1861&lt;/page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row_id&gt;10&lt;/row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template&gt;GO_table_product&lt;/templat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box_uid&gt;73c9eb6b3db48b95c5213e57bdbfb339.1861.1176475687&lt;/box_u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id&gt;GO:0000234&lt;/go_id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status&gt;required field missing&lt;/statu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aspect&gt;F&lt;/aspect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go_term&gt;phosphoethanolamine N-methyltransferase activity&lt;/go_term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notes&gt;fake GO annotation for testing&lt;/note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evidence&gt;IDA: Inferred from Direct Assay&lt;/evidence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row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more rows…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wikirows&gt;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wikibot -i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$ ./wikibot_test.pl|./wikibot.pl -a JimHu/testadaptor1 -u JimHu -i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kibot_test.pl generates some outp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a regex to munge 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utput piped to wikibot.pl with para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bleEdit is ready for more tes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t just got to its current state yesterd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utput is just yet another kind of text that different clients will have to par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put works with a “standard”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f row_id is present, update, else inse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uggestions for improving the standard would be useful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dating the wiki directly via the TableEdit instead of via XM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ould be less prone to conflicts than saving and loading XML later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ably should be rewritten to use Class::DBI at some poi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pite the need for more serious testing, I’m going to try to use this to load up EcoliWiki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Community Annotation with Wikis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robl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s are potentially very nice for CA but the freetext nature of wiki content limits their useful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sible solu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mantic Mediawiki - extend markup (Users won’t do thi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atural language processing of wiki pages (Hard to implement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rovide a natural way to display key-value pair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39800" y="944640"/>
            <a:ext cx="7612200" cy="4797360"/>
            <a:chOff x="739800" y="944640"/>
            <a:chExt cx="7612200" cy="4797360"/>
          </a:xfrm>
        </p:grpSpPr>
        <p:sp>
          <p:nvSpPr>
            <p:cNvPr id="53" name=""/>
            <p:cNvSpPr/>
            <p:nvPr/>
          </p:nvSpPr>
          <p:spPr>
            <a:xfrm>
              <a:off x="2027880" y="944640"/>
              <a:ext cx="156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ty us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05400" y="94464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800" y="3303720"/>
              <a:ext cx="182880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6880" y="3303720"/>
              <a:ext cx="73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ki p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95320" y="3525840"/>
              <a:ext cx="1143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box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67080" y="1789200"/>
              <a:ext cx="1524240" cy="333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al:TableEd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064280" y="3417840"/>
              <a:ext cx="990720" cy="7621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33840" y="2509920"/>
              <a:ext cx="990720" cy="57780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02080" y="3541680"/>
              <a:ext cx="1246320" cy="5079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box_B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66960" y="3568680"/>
              <a:ext cx="979560" cy="466920"/>
            </a:xfrm>
            <a:prstGeom prst="rect">
              <a:avLst/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diawi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nte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" name=""/>
            <p:cNvCxnSpPr>
              <a:stCxn id="62" idx="1"/>
              <a:endCxn id="57" idx="3"/>
            </p:cNvCxnSpPr>
            <p:nvPr/>
          </p:nvCxnSpPr>
          <p:spPr>
            <a:xfrm rot="10800000">
              <a:off x="2037600" y="3799800"/>
              <a:ext cx="729360" cy="2160"/>
            </a:xfrm>
            <a:prstGeom prst="bentConnector3">
              <a:avLst>
                <a:gd name="adj1" fmla="val 4987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0" idx="1"/>
              <a:endCxn id="58" idx="2"/>
            </p:cNvCxnSpPr>
            <p:nvPr/>
          </p:nvCxnSpPr>
          <p:spPr>
            <a:xfrm flipV="1">
              <a:off x="5028840" y="2122200"/>
              <a:ext cx="1080" cy="38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5" name=""/>
            <p:cNvCxnSpPr>
              <a:stCxn id="61" idx="3"/>
              <a:endCxn id="59" idx="2"/>
            </p:cNvCxnSpPr>
            <p:nvPr/>
          </p:nvCxnSpPr>
          <p:spPr>
            <a:xfrm>
              <a:off x="5648040" y="3795840"/>
              <a:ext cx="1416600" cy="3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6" name=""/>
            <p:cNvCxnSpPr>
              <a:stCxn id="60" idx="3"/>
              <a:endCxn id="61" idx="0"/>
            </p:cNvCxnSpPr>
            <p:nvPr/>
          </p:nvCxnSpPr>
          <p:spPr>
            <a:xfrm rot="5400000">
              <a:off x="4799880" y="3312720"/>
              <a:ext cx="45468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67" name=""/>
            <p:cNvCxnSpPr>
              <a:stCxn id="61" idx="1"/>
              <a:endCxn id="62" idx="3"/>
            </p:cNvCxnSpPr>
            <p:nvPr/>
          </p:nvCxnSpPr>
          <p:spPr>
            <a:xfrm flipV="1" rot="10800000">
              <a:off x="3745800" y="3794760"/>
              <a:ext cx="656280" cy="6840"/>
            </a:xfrm>
            <a:prstGeom prst="bentConnector3">
              <a:avLst>
                <a:gd name="adj1" fmla="val 498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3" idx="2"/>
              <a:endCxn id="55" idx="0"/>
            </p:cNvCxnSpPr>
            <p:nvPr/>
          </p:nvCxnSpPr>
          <p:spPr>
            <a:xfrm rot="5400000">
              <a:off x="1205640" y="1696680"/>
              <a:ext cx="2055240" cy="1159560"/>
            </a:xfrm>
            <a:prstGeom prst="bentConnector3">
              <a:avLst>
                <a:gd name="adj1" fmla="val 1296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" name=""/>
            <p:cNvSpPr/>
            <p:nvPr/>
          </p:nvSpPr>
          <p:spPr>
            <a:xfrm>
              <a:off x="895320" y="4138560"/>
              <a:ext cx="144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eetext com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&lt;!--section id=n--&gt;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13160" y="4194000"/>
              <a:ext cx="1524240" cy="4464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kipage Pars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" name=""/>
            <p:cNvCxnSpPr>
              <a:stCxn id="69" idx="3"/>
              <a:endCxn id="70" idx="1"/>
            </p:cNvCxnSpPr>
            <p:nvPr/>
          </p:nvCxnSpPr>
          <p:spPr>
            <a:xfrm>
              <a:off x="2336760" y="4412880"/>
              <a:ext cx="1977120" cy="5400"/>
            </a:xfrm>
            <a:prstGeom prst="bentConnector3">
              <a:avLst>
                <a:gd name="adj1" fmla="val 4995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3" idx="2"/>
              <a:endCxn id="58" idx="0"/>
            </p:cNvCxnSpPr>
            <p:nvPr/>
          </p:nvCxnSpPr>
          <p:spPr>
            <a:xfrm flipH="1" rot="16200000">
              <a:off x="3651120" y="410760"/>
              <a:ext cx="540720" cy="221688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>
              <a:stCxn id="57" idx="3"/>
              <a:endCxn id="58" idx="1"/>
            </p:cNvCxnSpPr>
            <p:nvPr/>
          </p:nvCxnSpPr>
          <p:spPr>
            <a:xfrm flipV="1">
              <a:off x="2037960" y="1955520"/>
              <a:ext cx="2229480" cy="1845360"/>
            </a:xfrm>
            <a:prstGeom prst="bentConnector3">
              <a:avLst>
                <a:gd name="adj1" fmla="val 1679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70" idx="3"/>
              <a:endCxn id="59" idx="2"/>
            </p:cNvCxnSpPr>
            <p:nvPr/>
          </p:nvCxnSpPr>
          <p:spPr>
            <a:xfrm flipV="1">
              <a:off x="5837400" y="3798360"/>
              <a:ext cx="1227240" cy="619920"/>
            </a:xfrm>
            <a:prstGeom prst="bentConnector3">
              <a:avLst>
                <a:gd name="adj1" fmla="val 4994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76" idx="2"/>
              <a:endCxn id="59" idx="1"/>
            </p:cNvCxnSpPr>
            <p:nvPr/>
          </p:nvCxnSpPr>
          <p:spPr>
            <a:xfrm rot="5400000">
              <a:off x="6941520" y="2796840"/>
              <a:ext cx="12387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7" name=""/>
            <p:cNvCxnSpPr>
              <a:stCxn id="54" idx="2"/>
              <a:endCxn id="76" idx="0"/>
            </p:cNvCxnSpPr>
            <p:nvPr/>
          </p:nvCxnSpPr>
          <p:spPr>
            <a:xfrm flipH="1" rot="16200000">
              <a:off x="6879240" y="1107720"/>
              <a:ext cx="542160" cy="824760"/>
            </a:xfrm>
            <a:prstGeom prst="bentConnector3">
              <a:avLst>
                <a:gd name="adj1" fmla="val 49833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8" name="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5613480" y="663840"/>
              <a:ext cx="540720" cy="1710360"/>
            </a:xfrm>
            <a:prstGeom prst="bentConnector3">
              <a:avLst>
                <a:gd name="adj1" fmla="val 4996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6" name=""/>
            <p:cNvSpPr/>
            <p:nvPr/>
          </p:nvSpPr>
          <p:spPr>
            <a:xfrm>
              <a:off x="6773760" y="1790640"/>
              <a:ext cx="1578240" cy="389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ther GMOD too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he Plan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4952880"/>
            <a:ext cx="5638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editor (v0.3 prototype 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kibox_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ableEdit, SpecialTableEdit, and wikibox_db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27880" y="944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ty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9800" y="3303720"/>
            <a:ext cx="182880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6880" y="3303720"/>
            <a:ext cx="73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ki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95320" y="352584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box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1789200"/>
            <a:ext cx="1524240" cy="333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:Table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33840" y="2509920"/>
            <a:ext cx="990720" cy="57780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kibox_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7" idx="1"/>
            <a:endCxn id="86" idx="2"/>
          </p:cNvCxnSpPr>
          <p:nvPr/>
        </p:nvCxnSpPr>
        <p:spPr>
          <a:xfrm flipV="1">
            <a:off x="5028840" y="2122200"/>
            <a:ext cx="1080" cy="388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82" idx="2"/>
            <a:endCxn id="83" idx="0"/>
          </p:cNvCxnSpPr>
          <p:nvPr/>
        </p:nvCxnSpPr>
        <p:spPr>
          <a:xfrm rot="5400000">
            <a:off x="1205640" y="1696680"/>
            <a:ext cx="2055240" cy="1159560"/>
          </a:xfrm>
          <a:prstGeom prst="bentConnector3">
            <a:avLst>
              <a:gd name="adj1" fmla="val 12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895320" y="4138560"/>
            <a:ext cx="144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eetext com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!--section id=n--&gt;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2"/>
            <a:endCxn id="86" idx="0"/>
          </p:cNvCxnSpPr>
          <p:nvPr/>
        </p:nvCxnSpPr>
        <p:spPr>
          <a:xfrm flipH="1" rot="16200000">
            <a:off x="3651120" y="410760"/>
            <a:ext cx="540720" cy="22168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2" name=""/>
          <p:cNvCxnSpPr>
            <a:stCxn id="85" idx="3"/>
            <a:endCxn id="86" idx="1"/>
          </p:cNvCxnSpPr>
          <p:nvPr/>
        </p:nvCxnSpPr>
        <p:spPr>
          <a:xfrm flipV="1">
            <a:off x="2037960" y="1955520"/>
            <a:ext cx="2229480" cy="1845360"/>
          </a:xfrm>
          <a:prstGeom prst="bentConnector3">
            <a:avLst>
              <a:gd name="adj1" fmla="val 1679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46520" y="3363480"/>
            <a:ext cx="561168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bleEdit - allows placement of new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al:TableEdit - allows forms-based editing of t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kibox_db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ox_id, template, page_title, namespace, type, headings, heading_style, box_style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ow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ow_id, box_id, owner_uid, row_data, row_style, row_sort_order, timestamp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l1 || col2 || col3 || …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My db is lighter than Todd’s</a:t>
            </a:r>
            <a:br>
              <a:rPr sz="3600"/>
            </a:b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(but more complex than Ken’s)</a:t>
            </a:r>
            <a:endParaRPr b="0" lang="en-US" sz="2400" spc="-1" strike="noStrike">
              <a:solidFill>
                <a:srgbClr val="8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90720" y="1844640"/>
          <a:ext cx="2057400" cy="30319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m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ge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hea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eading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96" name=""/>
          <p:cNvCxnSpPr>
            <a:stCxn id="97" idx="3"/>
            <a:endCxn id="98" idx="1"/>
          </p:cNvCxnSpPr>
          <p:nvPr/>
        </p:nvCxnSpPr>
        <p:spPr>
          <a:xfrm>
            <a:off x="3048120" y="1996920"/>
            <a:ext cx="2134080" cy="681840"/>
          </a:xfrm>
          <a:prstGeom prst="bentConnector3">
            <a:avLst>
              <a:gd name="adj1" fmla="val 4999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990720" y="184464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252576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0280" y="3900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87800" y="2509920"/>
            <a:ext cx="179640" cy="331560"/>
            <a:chOff x="4987800" y="2509920"/>
            <a:chExt cx="179640" cy="331560"/>
          </a:xfrm>
        </p:grpSpPr>
        <p:sp>
          <p:nvSpPr>
            <p:cNvPr id="101" name=""/>
            <p:cNvSpPr/>
            <p:nvPr/>
          </p:nvSpPr>
          <p:spPr>
            <a:xfrm flipV="1">
              <a:off x="4987800" y="250992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7800" y="2676600"/>
              <a:ext cx="17964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5181480" y="2220840"/>
          <a:ext cx="2057400" cy="21225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ox_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wner_u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Gill Sans"/>
                        </a:rPr>
                        <a:t>row_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ty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ow_sort_or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imest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45040" cy="233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909960" cy="16178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5056200" cy="2276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0" r="30992" b="0"/>
          <a:stretch/>
        </p:blipFill>
        <p:spPr>
          <a:xfrm>
            <a:off x="4952880" y="914400"/>
            <a:ext cx="3581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mple: \n delimited lis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743200"/>
            <a:ext cx="358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Using templates with TableEdit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&lt;newTableEdit&gt;Template:templatename&lt;/newTableEdit&gt;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mplate content can be simple or comple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termediate: \n delimited list with extra propert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514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ing||uniquename|property|pa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20040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ext: use input type text instead of tes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lect: pulldown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ipe-delimited list of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: MySQL databas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QL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lc: simple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alculation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ookupcalc: Combines lookup and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Gill Sans"/>
              </a:rPr>
              <a:t>Template example</a:t>
            </a:r>
            <a:endParaRPr b="0" lang="en-US" sz="3600" spc="-1" strike="noStrike">
              <a:solidFill>
                <a:srgbClr val="8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Qualifier||select| |NO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ID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GO term name||lookupcalc|SELECT page_title FROM go_archive.term WHERE go_id = '{{{1}}}' ORDER BY term_update DESC LIMIT 1|page_title|split|_!_|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Reference(s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Evidence Code||select| |IC: Inferred by Curator|IDA: Inferred from Direct Assay|IEA: Inferred from Electronic Annotation|IEP: Inferred from Expression Pattern|IGC: Inferred from Genomic Context|IGI: Inferred from Genetic Interaction|IMP: Inferred from Mutant Phenotype|IPI: Inferred from Physical Interaction|ISS: Inferred from Sequence or Structural Similarity|NAS: Non-traceable Author Statement|ND: No biological Data available|RCA: inferred from Reviewed Computational Analysis|TAS: Traceable Author Statement|NR: Not Record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with/from||tex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Aspect||lookup|SELECT namespace FROM go_archive.term WHERE go_id = '{{{1}}}' ORDER BY term_update DESC LIMIT 1|namespac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aco"/>
              </a:rPr>
              <a:t>Status||calc|reqcomplete|1|3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441324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7:32:11Z</dcterms:created>
  <dc:creator>Jim Hu</dc:creator>
  <dc:description/>
  <dc:language>en-US</dc:language>
  <cp:lastModifiedBy>Jim Hu</cp:lastModifiedBy>
  <dcterms:modified xsi:type="dcterms:W3CDTF">2007-05-14T18:06:18Z</dcterms:modified>
  <cp:revision>25</cp:revision>
  <dc:subject/>
  <dc:title>PowerPoint Presentation</dc:title>
</cp:coreProperties>
</file>